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30C-6C17-4649-8A03-B3309B00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0EB-26A0-4C90-AC4C-3A50843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060-7F60-491F-A794-255322D6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183-2485-4FCD-B08E-1E78B56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83E-C8B1-4CB4-B6FD-E7410ED1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DA0-93E7-46D6-80C0-C3F37056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F365-AFDB-49FC-8A4D-DDCDC94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EC76-62CD-41A5-997C-DC6A440D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A2AF-99EB-4B8B-A89B-15D65FB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415-C800-4F0A-AB72-045B6D3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8154-A8C2-48FA-AE96-DC34358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5C6-EED8-4EFD-8B4A-A6318FFB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42F4-4785-49AD-90FB-C89E023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F52C-3480-4BCF-91F8-B609DBC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8D84-78A5-4539-B0B9-42215AC6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B971-0B21-4D08-9E70-835AA7ED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F56-41EF-48CE-BBF9-61C76E89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FB1-BE99-4A7A-AAA2-8DC6DDC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16B-037C-4F30-B5DD-284086AC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272-61DC-427F-A2CB-028AB7C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517-2AEE-4EE0-A624-0F90A012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F1A-E2F3-43EE-9B38-3E40D84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829-5289-45D5-BFA7-DE47D2E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16C-ECB8-47A7-BC1C-6BB6587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062-ECFF-4DE1-A08C-88971D1A9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E37-8F29-4D10-8938-B1A9C563E5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ro.wikipedia.org/wiki/Atribut" TargetMode="External"/><Relationship Id="rId3" Type="http://schemas.openxmlformats.org/officeDocument/2006/relationships/hyperlink" Target="http://ro.wikipedia.org/wiki/Pronume" TargetMode="External"/><Relationship Id="rId4" Type="http://schemas.openxmlformats.org/officeDocument/2006/relationships/hyperlink" Target="http://ro.wikipedia.org/wiki/Caz" TargetMode="External"/><Relationship Id="rId5" Type="http://schemas.openxmlformats.org/officeDocument/2006/relationships/hyperlink" Target="http://ro.wikipedia.org/wiki/Nominativ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7920" y="1542960"/>
            <a:ext cx="7196400" cy="1656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Black"/>
              </a:rPr>
              <a:t>Atribu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tributul Prono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6216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ul acesta a fost realizat de Stoian Alina clasa a VI 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368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57200"/>
            <a:ext cx="2819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ibut pro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u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atrib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rimat printr-u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pron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nal, reflexiv, posesiv, demonstrativ, interogativ, relativ, nehotărât sau negativ. Pronumele poate fi în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cazur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nominat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poziţional), genitiv (genitival), dativ sau acuzati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ibutul pronominal se exprima pr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ul pronominal genitiv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ărţile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lor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se află pe banc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 pronominal apoziţ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legii,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, n-au fost de acord cu propunerea făcu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tribut pronominal în dati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ăru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tingea pămân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te isi au ros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1:47:48Z</dcterms:created>
  <dc:creator>ddd</dc:creator>
  <dc:description/>
  <dc:language>en-US</dc:language>
  <cp:lastModifiedBy>ddd</cp:lastModifiedBy>
  <dcterms:modified xsi:type="dcterms:W3CDTF">2011-05-08T16:14:42Z</dcterms:modified>
  <cp:revision>6</cp:revision>
  <dc:subject/>
  <dc:title>Atributul</dc:title>
</cp:coreProperties>
</file>